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6B8-CCDF-43B1-9851-D9E77733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4B6-1B6D-49A2-89F2-ABF35F1D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0B6-DD9A-43EA-BB67-DD29F92C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D1F-3C53-41F6-833D-755C3DE3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FEB-5A47-4004-9A75-7C30D8E3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B97-5F1E-4F75-ABB9-DE7D346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A83-BEDC-4900-9199-E1C3B1EC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D21-A4DA-453F-BEFD-AA95C68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140-0FD4-48F6-B7C0-2F9694C6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DFD-CDF6-44F5-9D69-01DC57B0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354-ED29-4D16-AD1B-853293D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40F-D45A-456D-95A2-E3F70191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87B-0AD2-4970-89BF-DD8575473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إليكَ رفعتُ عينيَّ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  <a:ea typeface="????Boutros Roka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يكَ رفعتُ عينيَّ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يا ساكِنَ السماوات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ونَ العبيد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أيدي مواليهم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ني الأَمَة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سيدتها كذلك عيونُ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الربِ إلهـِ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حتى يتحنَّن علي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َ علينا يا ربُ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 علينا فقد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ـما امتلأنا هواناً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ما امتلأت نفوسن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هُزؤِ المترَفينَ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إهانةِ المتكبّرينَ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1:17:01Z</dcterms:created>
  <dc:creator>Charbel Azar</dc:creator>
  <dc:description/>
  <dc:language>en-US</dc:language>
  <cp:lastModifiedBy>Charbel Azar</cp:lastModifiedBy>
  <dcterms:modified xsi:type="dcterms:W3CDTF">2003-01-31T11:17:01Z</dcterms:modified>
  <cp:revision>1</cp:revision>
  <dc:subject/>
  <dc:title>إليكَ رفعتُ عينيَّ </dc:title>
</cp:coreProperties>
</file>